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D56D-D1F5-4047-A41E-17F176E2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F3D-F9E5-4A74-B128-1C5CB1A5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3577-3BEA-46AF-BBE2-9F795119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F1DB-AF02-4B11-B7B1-96C7AE03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2805-EECF-4E0F-920F-53247AB6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C89B-6B69-4B95-8956-671C4715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B67-43E0-4959-8FD5-AD07206A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1EF2-7663-4DFD-9F19-D710E890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916A-AC26-4EA2-A566-52EE9D6D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2824-D39F-4A62-8D61-AC09DBC5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2203-5BB1-4BCD-A184-9511C228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DAC8-9EC5-43AD-B5F4-332E7DE0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910F-CC0B-4B5D-B568-171C383AD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660" t="5969" r="11661" b="3398"/>
          <a:stretch/>
        </p:blipFill>
        <p:spPr>
          <a:xfrm>
            <a:off x="-7920" y="47520"/>
            <a:ext cx="914400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432" t="5956" r="9174" b="3522"/>
          <a:stretch/>
        </p:blipFill>
        <p:spPr>
          <a:xfrm>
            <a:off x="0" y="47520"/>
            <a:ext cx="91440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4:17:26Z</dcterms:created>
  <dc:creator>Luis</dc:creator>
  <dc:description/>
  <dc:language>en-US</dc:language>
  <cp:lastModifiedBy>Luis</cp:lastModifiedBy>
  <dcterms:modified xsi:type="dcterms:W3CDTF">2008-04-28T14:22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